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0CD2-59DB-4BEE-9FCF-E01F53A0C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E1E4-4495-4816-BDC3-CA2556A4E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6149-11A7-4753-8CA7-E86C01324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7755-40E4-4F61-A978-B0ADA7AE0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64F3B-A4E8-4FDF-AB9C-6E1DD9707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870C0-A7E1-45FA-9622-99CC888BC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9A89F-B632-4D98-8596-76BFC9096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68FC5-A8C0-4FFC-A4F5-0B2B83AA1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FE6AD-D55D-4AD8-83B2-BF4478460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14839-B85B-4DFE-BB07-0E29EAF87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5B32E-DD5B-4A3B-A6DE-3FE12E1AE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AD1F-1DCC-4597-A48C-E57C9CA45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BDD9B-F3A4-4F5E-B29E-9A214A980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196A7-78DE-4B79-AF8E-CDD2A1D69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D5BC2-4446-4281-B436-D21154EA5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2B55D-E1A8-4AEE-8773-B4F0838DE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9B95B-FBBD-4A7B-B01D-8D6AED548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483C-8385-44FC-AE7F-44E041193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2FCB-3273-4D41-9B3E-7D145DF5F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7502-E3EC-45B5-A440-E459D5CB6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E0AD-CE36-4240-A23D-413FDEF61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0C60-D736-4472-B89D-FB0C6FCE0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ABAE-0C41-4C58-914A-1A18A1542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C69B-8A7B-42A0-82F5-419D0F559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ff7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6680" cy="6858000"/>
            <a:chOff x="-720" y="-4680"/>
            <a:chExt cx="10666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56f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2b6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656f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1818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56f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1818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2b6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a9a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a9a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818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d2b6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1818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477539"/>
                </a:gs>
                <a:gs pos="100000">
                  <a:srgbClr val="9cff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2080" y="3273480"/>
              <a:ext cx="6856200" cy="29988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9cff7c"/>
                </a:gs>
                <a:gs pos="100000">
                  <a:srgbClr val="4775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81848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E9C44-C327-43E6-92A5-1574FA7D49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ff7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56f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2b6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656f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1818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56f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1818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2b6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a9a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a9a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818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d2b6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1818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9cff7c"/>
                </a:gs>
                <a:gs pos="100000">
                  <a:srgbClr val="47753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477539"/>
                </a:gs>
                <a:gs pos="100000">
                  <a:srgbClr val="9cff7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37124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81848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03F91-C4D3-4C51-8146-848A0FC94D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ff7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37124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81848"/>
                </a:solidFill>
                <a:latin typeface="Times New Roman"/>
              </a:rPr>
              <a:t>Motorcycle Vocabulary</a:t>
            </a:r>
            <a:br>
              <a:rPr sz="4400"/>
            </a:br>
            <a:r>
              <a:rPr b="0" lang="en-US" sz="1800" spc="-1" strike="noStrike">
                <a:solidFill>
                  <a:srgbClr val="181848"/>
                </a:solidFill>
                <a:latin typeface="Times New Roman"/>
              </a:rPr>
              <a:t>Introducing vocabulary idea, from Mentoring Minds</a:t>
            </a:r>
            <a:endParaRPr b="0" lang="en-US" sz="18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 out a ride down the open road while spelling and saying the word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ff7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81848"/>
                </a:solidFill>
                <a:latin typeface="Times New Roman"/>
              </a:rPr>
              <a:t>Motorcycle Vocabulary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t new vocabulary word up for displ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 say the word alou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 pretend to get onto their motorcyc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 then spell the vocabulary wor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the letters are done students pretend to crank up the bike and ride of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9T15:34:16Z</dcterms:created>
  <dc:creator>Ann Weeks</dc:creator>
  <dc:description/>
  <dc:language>en-US</dc:language>
  <cp:lastModifiedBy>Ann Weeks</cp:lastModifiedBy>
  <dcterms:modified xsi:type="dcterms:W3CDTF">2008-06-29T15:48:54Z</dcterms:modified>
  <cp:revision>6</cp:revision>
  <dc:subject/>
  <dc:title>Basket Ball Vocabulary Introducing vocabulary idea, from Mentoring Minds</dc:title>
</cp:coreProperties>
</file>